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887D-AC2F-4E0C-988E-84FC83E44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53D-E808-415E-BD78-24BBAF94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B74-6CB7-4B58-AD44-0A0D0596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873-2F7E-4DF3-8AC9-2789AC6A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3A3-1514-45DE-97D1-71204707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7CF9-AFEA-4627-A25C-EB318E92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9991-3D2B-404B-9571-DB87812C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15B8-F0E0-4F8C-9B95-570BEE19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ED1B-DE25-4069-9310-915DD968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1072-C549-4F83-BAE8-A007D961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CE62-AFC4-4F69-B8B8-F4169A60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AA4C-7C21-4B99-8F2E-BA3FAB53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E49-78D8-4B70-8B39-55959AEA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581C-E9AE-4E81-AF31-7772A731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14C4-1AFF-4146-94F1-A65FEAE1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719F-D9B5-4D9A-8285-2848E1BD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FF19-6658-4803-ABED-22695063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B251-D200-46CE-B2CB-C2BA1AA8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716-8AED-4569-B25B-7B713942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DC1-85BB-4489-AD0E-1871B8F7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946-C910-4639-AFB7-2DC14A4F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778-E441-49B1-9FF2-FDC49AD7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FFC-5213-420E-AA4D-42F78D4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365-B5DA-4DB4-8BB6-B07543BA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CDA-E209-47D6-BF46-173FD52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D1C3-D5EC-45DC-812A-9FC9D0557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DE3A-BCE8-4140-B9F7-BA316CA94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</a:t>
            </a:r>
            <a:br>
              <a:rPr sz="4800"/>
            </a:b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he Continent Series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editerranean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t, dry summers, mild, wet w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nly found in 5 places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alifornia, Northern Baj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Basin of the Mediterranean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uthwestern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estern cape of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ral Cost of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alifornia Coast"/>
          <p:cNvPicPr/>
          <p:nvPr/>
        </p:nvPicPr>
        <p:blipFill>
          <a:blip r:embed="rId1"/>
          <a:stretch/>
        </p:blipFill>
        <p:spPr>
          <a:xfrm>
            <a:off x="3951360" y="4754520"/>
            <a:ext cx="34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regon to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50 species of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5 tree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Olympic%20National%20Park2"/>
          <p:cNvPicPr/>
          <p:nvPr/>
        </p:nvPicPr>
        <p:blipFill>
          <a:blip r:embed="rId1"/>
          <a:stretch/>
        </p:blipFill>
        <p:spPr>
          <a:xfrm>
            <a:off x="6618240" y="3184560"/>
            <a:ext cx="22384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as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-3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emperatures 10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inter temperatures 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grasslands_national_park"/>
          <p:cNvPicPr/>
          <p:nvPr/>
        </p:nvPicPr>
        <p:blipFill>
          <a:blip r:embed="rId1"/>
          <a:stretch/>
        </p:blipFill>
        <p:spPr>
          <a:xfrm>
            <a:off x="6510240" y="2813040"/>
            <a:ext cx="1800360" cy="279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800px-Grasslands-menggu"/>
          <p:cNvPicPr/>
          <p:nvPr/>
        </p:nvPicPr>
        <p:blipFill>
          <a:blip r:embed="rId2"/>
          <a:stretch/>
        </p:blipFill>
        <p:spPr>
          <a:xfrm>
            <a:off x="3122640" y="3209760"/>
            <a:ext cx="2763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Tundra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° to 70° No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undra means barren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ound is permanetly frozen 10” to 3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verage temperature -18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he sun never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orlds’ coldest/driest bi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anaktuvuk_scenery"/>
          <p:cNvPicPr/>
          <p:nvPr/>
        </p:nvPicPr>
        <p:blipFill>
          <a:blip r:embed="rId1"/>
          <a:stretch/>
        </p:blipFill>
        <p:spPr>
          <a:xfrm>
            <a:off x="5070600" y="4297320"/>
            <a:ext cx="315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7440" y="414000"/>
            <a:ext cx="631656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82560" y="1020240"/>
            <a:ext cx="6661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re four specific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jave Desert – the smallest, but where Death Valley can reach 13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Joshua Tree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hihuahuan Desert – found in Mexico, it gets 8-12 inches of rain per year.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Century Plan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phnadde"/>
          <p:cNvPicPr/>
          <p:nvPr/>
        </p:nvPicPr>
        <p:blipFill>
          <a:blip r:embed="rId1"/>
          <a:stretch/>
        </p:blipFill>
        <p:spPr>
          <a:xfrm>
            <a:off x="316080" y="663480"/>
            <a:ext cx="210492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phjtwde"/>
          <p:cNvPicPr/>
          <p:nvPr/>
        </p:nvPicPr>
        <p:blipFill>
          <a:blip r:embed="rId2"/>
          <a:stretch/>
        </p:blipFill>
        <p:spPr>
          <a:xfrm>
            <a:off x="5448240" y="313704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entury-plant-blossoms"/>
          <p:cNvPicPr/>
          <p:nvPr/>
        </p:nvPicPr>
        <p:blipFill>
          <a:blip r:embed="rId3"/>
          <a:stretch/>
        </p:blipFill>
        <p:spPr>
          <a:xfrm>
            <a:off x="8271000" y="4791240"/>
            <a:ext cx="658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11080" y="30924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north-america"/>
          <p:cNvPicPr/>
          <p:nvPr/>
        </p:nvPicPr>
        <p:blipFill>
          <a:blip r:embed="rId1"/>
          <a:stretch/>
        </p:blipFill>
        <p:spPr>
          <a:xfrm>
            <a:off x="3479760" y="1558800"/>
            <a:ext cx="4460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world image"/>
          <p:cNvPicPr/>
          <p:nvPr/>
        </p:nvPicPr>
        <p:blipFill>
          <a:blip r:embed="rId1"/>
          <a:stretch/>
        </p:blipFill>
        <p:spPr>
          <a:xfrm>
            <a:off x="2335320" y="181620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Unique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ighest peak is Denali,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ugby, North Dak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er poi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eartbeats_of_denali_L"/>
          <p:cNvPicPr/>
          <p:nvPr/>
        </p:nvPicPr>
        <p:blipFill>
          <a:blip r:embed="rId1"/>
          <a:stretch/>
        </p:blipFill>
        <p:spPr>
          <a:xfrm>
            <a:off x="3322800" y="2103480"/>
            <a:ext cx="2608200" cy="174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224_01_58---Rugby--North-Dakota--USA_web"/>
          <p:cNvPicPr/>
          <p:nvPr/>
        </p:nvPicPr>
        <p:blipFill>
          <a:blip r:embed="rId2"/>
          <a:stretch/>
        </p:blipFill>
        <p:spPr>
          <a:xfrm>
            <a:off x="6419880" y="4141800"/>
            <a:ext cx="1468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’s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.8% of the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i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orth-america"/>
          <p:cNvPicPr/>
          <p:nvPr/>
        </p:nvPicPr>
        <p:blipFill>
          <a:blip r:embed="rId1"/>
          <a:stretch/>
        </p:blipFill>
        <p:spPr>
          <a:xfrm>
            <a:off x="2990880" y="1531800"/>
            <a:ext cx="48290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Bodies of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6120" y="1531440"/>
            <a:ext cx="7950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lumbi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lorad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io Gr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issouri River - l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ississippi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issouri/Mississippi River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,879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dies_of_Water_6"/>
          <p:cNvPicPr/>
          <p:nvPr/>
        </p:nvPicPr>
        <p:blipFill>
          <a:blip r:embed="rId1"/>
          <a:stretch/>
        </p:blipFill>
        <p:spPr>
          <a:xfrm>
            <a:off x="4272120" y="1757520"/>
            <a:ext cx="413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namerica_climate"/>
          <p:cNvPicPr/>
          <p:nvPr/>
        </p:nvPicPr>
        <p:blipFill>
          <a:blip r:embed="rId1"/>
          <a:stretch/>
        </p:blipFill>
        <p:spPr>
          <a:xfrm>
            <a:off x="2624040" y="1784520"/>
            <a:ext cx="651996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Coniferou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pper area of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ines, fir and spruce trees, produce cones which contains the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all mountains have supported tre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ld and stormy in the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ightening storms in the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forestmt"/>
          <p:cNvPicPr/>
          <p:nvPr/>
        </p:nvPicPr>
        <p:blipFill>
          <a:blip r:embed="rId1"/>
          <a:stretch/>
        </p:blipFill>
        <p:spPr>
          <a:xfrm>
            <a:off x="4289400" y="4592520"/>
            <a:ext cx="30765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ciduo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y are found 0 - 50° degrees north l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ormer glaciers from New England to In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derate climate, 4 seasons and they get 2 - 4 feet of rain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rees are oaks, maples, beeches, hickories and 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21"/>
          <p:cNvPicPr/>
          <p:nvPr/>
        </p:nvPicPr>
        <p:blipFill>
          <a:blip r:embed="rId1"/>
          <a:stretch/>
        </p:blipFill>
        <p:spPr>
          <a:xfrm>
            <a:off x="6099120" y="4476600"/>
            <a:ext cx="2092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5:37:29Z</dcterms:created>
  <dc:creator>Rob</dc:creator>
  <dc:description/>
  <cp:keywords>North America the continent</cp:keywords>
  <dc:language>en-US</dc:language>
  <cp:lastModifiedBy>RomaK</cp:lastModifiedBy>
  <dcterms:modified xsi:type="dcterms:W3CDTF">2015-09-04T09:44:14Z</dcterms:modified>
  <cp:revision>7</cp:revision>
  <dc:subject/>
  <dc:title>North America the continent</dc:title>
</cp:coreProperties>
</file>